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84D-DBB5-4FE0-B08F-BD72348D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8EE-8B89-421F-BCD3-24AF9B9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C83-3624-4A70-8922-D125E5E5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E60B-A16D-4BCB-9972-02A354C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39EA-3498-4772-ABB5-5FB653D6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B81-460E-4751-888B-49BCCA0F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E77-0AB9-469E-B0A8-DFD63D99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7A0F-56BE-4D2E-BBF2-6F95F39E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9771-5A7D-4DB9-9F72-7B7AACD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7F76-02B0-42AE-8413-AD117E4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49A-7F63-4F81-884E-207FD82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B7E-2F1E-45EB-8BD1-F66EA1E7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46A-BE19-4403-B8AF-35B220B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4C4-CEB1-463B-B6D8-8C2626D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8671-442D-46B8-A421-4B070DA2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9E3-4D55-4647-A2F1-84F5E272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5514-84B6-4B95-83DC-9993D37B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2E5-8B0B-4B5E-9F68-1F06C1B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97A-8471-47CA-BB78-2B39BEC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463-8326-40BD-A661-F9C88D8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6C6-5801-413F-8582-03BAD626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7E4-1BDF-40C9-9B37-5899550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DE5-314A-4F15-BC23-594AEEE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4C7-B843-4B9A-A6AE-266BA492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A21-C3A0-4B28-8243-69487C43EF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EB4-E054-4D41-9850-B3824922E6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school.com/atschool/realidades/Activities/Chapter1L3/Chap1L30104.html" TargetMode="External"/><Relationship Id="rId2" Type="http://schemas.openxmlformats.org/officeDocument/2006/relationships/hyperlink" Target="http://www.quia.com/cb/94525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eterite Tens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tt W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gan Wilbur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w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terite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terite Tense is used to talk about actions that were completed in the p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took the train yesterd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levé el tren ay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ar, -er, -ir Ver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r ver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-a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s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-astei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-ar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Hablar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spea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é            hablam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aste        hablaste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bló             hablar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er/ir ver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í           -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iste      -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ió         -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Corr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ru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í          -corrim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iste     -corriste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orrió        -corrie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rregu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- to g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    -d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ste -d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dio -d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cer- to m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ce -hic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ciste -hic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hizo -hic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- to s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     -vim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ste   -viste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vio   -vi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r- to go/Ser-to 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i         -fuim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iste    -fuiste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fue       -fuer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car, -gar, -zar verb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y change in the yo for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car- Yo busqu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gar- Yo jugu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morzar- Yo almorc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Remembe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» 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er-to read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í        leí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íste    leíste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yó      leye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er-to belie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í        creím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íste    creíste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yó       creyer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actice This Stuff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phschool.com/atschool/realidades/Activities/Chapter1L3/Chap1L30104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quia.com/cb/94525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56:28Z</dcterms:created>
  <dc:creator>Media &amp; Technology</dc:creator>
  <dc:description/>
  <dc:language>en-US</dc:language>
  <cp:lastModifiedBy>Media &amp; Technology</cp:lastModifiedBy>
  <dcterms:modified xsi:type="dcterms:W3CDTF">2010-01-11T16:06:34Z</dcterms:modified>
  <cp:revision>2</cp:revision>
  <dc:subject/>
  <dc:title>Preterite Tense </dc:title>
</cp:coreProperties>
</file>